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9B1-5A5A-406A-B8C0-4F917045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F13-D946-4550-8AE6-0E04EB30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A07-4900-4AF0-9543-726519D2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7B6-210B-420E-A43C-87E08264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51D-059E-424A-BE11-33E15CF4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B9A-DAEC-44D0-ADE2-470EEE7D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23E-08F8-4278-97A4-9A3892EF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13E-FF49-46B3-9A72-C74D9EE9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3D3-1D79-4078-A91D-5CE47608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696-23FB-48EC-A700-A0ADF0C1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6FF-DF91-42C8-A677-9237160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45C-8FC7-4F43-8DC2-A50CD81D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5544-8CFB-40A9-9265-6540D6BE1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:\Users\dwilliams2\AppData\Local\Microsoft\Windows\Temporary Internet Files\Content.IE5\TXQRI1TX\stars[1].jpg"/>
          <p:cNvPicPr/>
          <p:nvPr/>
        </p:nvPicPr>
        <p:blipFill>
          <a:blip r:embed="rId2"/>
          <a:stretch/>
        </p:blipFill>
        <p:spPr>
          <a:xfrm>
            <a:off x="4572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6:36:24Z</dcterms:created>
  <dc:creator>dell</dc:creator>
  <dc:description/>
  <dc:language>en-US</dc:language>
  <cp:lastModifiedBy>dell</cp:lastModifiedBy>
  <cp:lastPrinted>2015-01-05T16:52:47Z</cp:lastPrinted>
  <dcterms:modified xsi:type="dcterms:W3CDTF">2015-01-05T17:59:09Z</dcterms:modified>
  <cp:revision>3</cp:revision>
  <dc:subject/>
  <dc:title>PowerPoint Presentation</dc:title>
</cp:coreProperties>
</file>